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6A0D-DA28-40DC-8F55-E1FF84F1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0A8-DC1E-4F68-9037-15B060A8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23EFB-041D-4C11-B158-910318B8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3B473-5A31-412E-9B41-0ED1E0FF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A2321-259D-4D72-AD44-D55ADE33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C80ED-E158-4BE0-A705-2BA6E5B0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AC2EC-D4EC-4937-92BE-F4CE58EC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055F0-0EA5-4231-ADB5-F447B58E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AF96E-D0C4-4A21-B34C-6F163437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CCBDE-3B70-4020-A562-CFD74BBD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E19C1-C1B6-4C65-835D-39A27240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65B74-364A-43A5-AF32-1DE3E6DF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5A2-7ABE-49D7-AA7C-2A9DD26E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92A17C-E15F-414B-B62B-307CC111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57940-15FE-4AF0-89A7-E294FD49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0B894-BF59-407A-AD56-5BA8C9F8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BFD4D4-A591-49B5-8C62-3CCEAC91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AC043-9351-4384-B6B0-FB90BF06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00385-3C68-4005-8664-83262051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BF413B-4DA6-46A5-B46E-1BF25AE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F2797-6B90-4B0D-9EAD-0F9F1271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794A85-055D-4061-9711-A7DB24E9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C1EFB-305E-4333-92A9-40AA6696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8A8-3284-4945-99DC-5A76FB1C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FA80D-1E94-4F58-A73B-B354E0D2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BC69E-20C5-4F59-AAB6-9F0F5368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D8668-89CB-41E3-A352-50628BD4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06BC5-1412-4CB2-BB3B-B0FD8129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6A5276-3E17-41AF-B476-0FC02B2C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2C665-B816-4552-837F-84419886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E7935-D9C9-4D39-A1E0-A769ED03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587B3-EE63-46EC-913A-7ECFD784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DF9F8-0D61-41A9-96EF-53854B4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CD041-E203-4811-8E80-E76B08FF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029F-FAB7-41BF-96EC-EFC15965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3D542-7675-4494-9211-78C3E177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41299F-5EFD-4773-95D0-BA01169C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E9C1B-CF41-4CB1-87C8-F9CB3DD33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BBDA7-66BE-4AA7-B29A-802D1309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42BA8-533D-4965-95AB-888EAF8E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C4863-9A4C-458E-913C-FB85D945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9A0AF-E412-4A50-97A7-621531EC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D5676-0F21-45AB-910B-7259DF2A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16CB0-CF27-4E6D-99CE-DE565729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1FA48E-C15C-417E-96BE-71C5DDF7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D176-C185-4699-BE88-95DF7925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B67DB-C08C-4366-967C-D23B36248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2E4D4-1557-4105-BE70-D2B0F3F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63BAA-71EC-43C9-B4CE-9A261DBE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CC530-89BE-45AB-BA4C-17CDC6A8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202AC-685B-4455-B3D2-F898D399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74BF4-1649-4775-A016-32F12CCB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6D941-8A2D-4A21-B1D8-D7B2B003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7450F-AF62-400E-95F7-8904BE58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1CB301-CCED-4F35-B237-A9416405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DC5CB-1D10-4C42-856C-8CD2BAA4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F635-3880-442E-BC0A-C89A458F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0C682-F1BE-4BF5-960C-384DE5B5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5EE1D-992A-4173-BDC5-5D67B906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5C53B-9973-4018-8AC5-9DFB3180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AAD60-207E-4F2F-A801-3F1E95EE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66AA2-07F0-4346-8584-0C3A3D26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5358E-3075-4E2E-8128-54511E2F1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5F206-2BB5-438D-96A9-28EF9112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7758FE-DB45-410C-B655-B39EAA803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DC1F9-383C-4A56-ABAB-C5B1BC9A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2843C-966D-4172-AF3D-634D682C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C90E-2D31-4BCE-97C0-957BD02D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BA4E1-F520-4A68-B725-DA10D10F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225406-5E7F-4ACC-9C4C-5D55A56C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AEBAE-9F85-4ECC-B8D6-BC62491F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9A572-985D-4D26-B43F-B314943A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C6AA6-39C1-40DE-B38C-07E3E59E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C3ECAD-6C9A-4925-9576-222317D4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A3794F-8156-4933-B4AC-902B45CE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5AA2E2-FBC6-46CE-A4DD-E818D51C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FE18B3-F17C-47E4-8465-86B0CAC3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F9CE96-2699-4E9B-BFE1-EB6214288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1D81-01D6-4E1F-9520-DBC9A099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2DD2B-B894-451C-9A77-7EDD0A6D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4A9DB2-91C1-4546-BC09-6C38F55A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A502E-AAE5-425B-82A9-A0AEDEED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A1061E-ABE1-4B7D-B5C5-E6D00CC5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94049C-163B-4EF4-A77D-5D5FBE2B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470697-D246-4261-9FD6-60C65F6D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C8EC0F-7A1D-4ED6-9400-BE3B9006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0B73EF-22C9-402C-9EA0-BD3A51C5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1B02F-C932-4CA8-AF85-CD320ABA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139EEF-D1FD-48AB-850E-4D5684EF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3AFC-9D71-427B-97CC-585B08E4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E3D64A-A8CF-4454-B055-CF99D098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65591-1371-4D07-AE4A-DDCF0BF0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FB5A5E-3833-4E7C-88BC-926844DB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295BA1-AFCA-49B5-86EF-95F5C45E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74734-7E1C-4078-9E33-6F69A0B0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7F8CD-A2DF-4129-BB71-0C3AAD8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66862-BA5F-4DBC-B125-3827EB36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BE8EC-D06D-4281-9C65-A815B4DD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E8480F-99EC-4098-83E8-89B8E0B2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0158EC-96B5-4E4A-BA2E-E3C74990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92EB-A070-4DF7-A150-62608C00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4E89A-6BDD-42CF-93CC-1EE40A22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416603-187E-4F97-8735-697F4E3B2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346828-8298-4FFE-B1EB-436A466C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64D2E4-B010-4298-BA00-24FDF5633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DEBBC-26E6-4029-A3FC-519AFF57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BCAE2-974B-401D-A480-A51244C7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C72261-CBD3-42AB-B88E-1AA86F10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C4AA5-FF4E-4732-992A-81E57E3B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7C9FAD-2029-4B14-86A4-792460CE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E6C10-85B1-4976-B4D2-3C0D9AAD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C16-D76B-4A5F-A095-F5EE1C7D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B00F-CCFB-46DA-99A0-D1691667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D20C54-389B-4145-8C23-A3D137D5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D8B39-3F29-46D4-9711-9B01CFB0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A9CC3-C599-44B8-9864-E218883D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D8E0F-1CE2-48B0-81D6-77B9B71B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F8E33-CCB8-4DF7-B2FF-8961561F3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47F36-4584-445A-BCA2-9246348E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9BB303-1A62-4839-AE93-15106AAF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3A2386-AD3F-4941-AAA6-9FE51E4A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32843-1BFD-4CB8-907B-329B5A1C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9837C9-73F9-40F1-8836-1F81F8591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DCD8-EB9D-489B-B915-FBC220BA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38C6F5-37CC-45D0-8EAB-65FD5FCA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1D53EA-7987-4749-92B6-514379DF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58BA47-7633-492D-9B6D-F53EA9BB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206E2D-3C97-494A-95BC-A33DC831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CE7F6-FD93-4C4F-B943-C88EECF0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7A6C4-8895-4F06-B6BE-6940DEB8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FD9991-7732-42BB-BCFD-31BC865E4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9FB5-16CE-45DB-A686-0FCEA03A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F438-9E0D-48CB-9721-711835C2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7860-7BA2-4944-9118-A83D7688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7270A-535B-4B2F-B0A5-DEC8AA49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55378-86D3-4C70-9E41-A23334C6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148DC-3115-4BE2-9932-5FDF687F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DEA9B-139A-4737-BEAB-4F3C3A81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062E7-A9C7-4498-A6C1-23E67D6B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2E1F-74FE-49A6-A844-7C607E41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141FE-951D-4580-9CDB-A8EF18D5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E481-372A-46C7-A16C-B195BB1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135DE-711B-4CAD-8B2D-D8E75B6A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69B2-B42E-45C8-B169-1992032E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07A34-E03A-41EA-A098-53BF5C1F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77846-CE3C-4E65-B221-297FCADE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DAAED-4718-4DBF-B2E6-5C58C7D4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EAC6A-7C11-4B4F-951D-AE6398DD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25F7D-70D2-4F05-B8F6-0534ABB3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9BC41-9E7D-4B5A-9EB0-FCEAC049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680-65B2-4B99-8AD5-F9E73A20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675A9-3373-465D-9F4E-7AE7D74E5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324F9-97DD-4691-A134-94AF560C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9A94-4722-4ED7-9691-74376467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C01F-C9FF-4C20-A766-684E2D2D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B47DF-4F66-4449-9533-54DA6B70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4694-1637-464C-ABF1-F10C036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0A07F-E568-45B4-BA83-EBC8CA2F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EF6C6-BD9D-46C5-85E7-5A4B923B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62FE-E495-45DC-B90A-12E891E54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50245-703A-45E5-8F68-752FB1BE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57F-602C-4762-A94E-0ECE6673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9E15B-062F-4C87-AEE5-FBD60D25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BA4E0-A44B-4D35-A633-E454D7A5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47DE3-7698-4CAD-919C-56F042CBA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8C86C-9D25-4F51-A9A5-A50DE050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EE0A-98CF-4C2C-A562-BC6B9DAA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191EB-1D4B-4164-B412-6566F090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5932D9-1CC9-4EEA-9AF8-A3ED05D4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49E5-2B33-4867-9CBC-C69224F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1EE22-F3A0-47FF-99A6-E53117CB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D6EB9-B16D-4005-BB72-B10DC47A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42E-2830-4FB9-B50E-78B1D660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5619-75AF-4924-BB48-E31280B5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0041F-5F10-4598-8527-A1A17DE54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7CF13-D93B-4524-A5DF-F0B23768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9DA9D-9B27-4334-A75F-42EE8FFF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A8D4C-D30F-4A9D-A2B3-498366EA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3C940-D30E-4352-B486-0ABB97A7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6A4F2-B3EE-4D2C-8710-87F1935B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64AE6-3A3F-44C5-A0D7-A20C97A5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0AF31-42F9-45F9-A876-A9240BAA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87F3D-56E7-4789-9B53-680D2F6C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E099-F45D-43F2-A25A-185AD783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7EBC5-E86E-4327-9589-C9551EF3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6D8D-613F-4DB2-B8E1-2F6F975AE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278A2-067B-4877-ADBC-31C43F5F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D5FE8-0213-4879-821E-FB0E7B28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CFC15-46E7-40DD-BAD8-970EEBDF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7F9E5-FCE8-41E2-8E53-7971E0E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3D1CB-3820-4FD9-86CC-71822B95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8E8AB-B409-46F8-B000-1C3D8070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436CE-3823-4A48-B465-EDF68C2E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BCAC2-7722-4479-9920-13E933C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5EA-5AC1-4A4B-B9BC-BB9827F2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90C0E-FD24-4392-A3C4-67763B925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91910-C580-43B6-9DDC-B09B297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F94E6-7FA2-4C40-995C-AFFD4A44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FAD50-AD20-4FCA-999E-B32533222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627DA-492C-48A4-9A09-B2E91FF7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A79CB-D99F-4CC4-B070-7AF9F20A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067AD-998E-45D0-B73E-C193F98F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68950-9152-4C3B-91A0-F764B32B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943D2-D737-4727-BA28-37B68729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60632-DA4C-4B15-8B92-E0F1C9F1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D47-07A1-4A84-B9FB-55EC4939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983C6-6C78-4F02-A21A-296A4022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7E655-7153-4993-81EE-2E7C4256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10D7B-8BEB-491E-A2BF-777F3685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6FBDB-FAAC-4CE1-8B78-450F953F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76375-88B7-46C8-AC05-3F23C026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589DD-BD8B-4540-A536-2FBE24D01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78689-363C-46F5-880A-3CE4DEBB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4F28C-925B-4320-9480-61A1741AF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78864-3829-4AE8-9CF4-45C48F8A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E6F85E-694F-40E7-85CC-934E5EA5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955E0-7F69-42A7-BA28-658643019B92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15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1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EEB9CD-0857-4D32-B3C7-6C23627E63D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2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46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3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BCD64-7F44-4B34-8940-A05A6E75FE4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1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6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647F7-1DDB-44CA-A420-1F16DEB019E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6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5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560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561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2AA14-525A-465D-A5F1-A2D452109D5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05" name="Group 7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06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Rectangle 10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09" name="Rectangle 11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sldNum" idx="42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C1DF1-0A80-44F6-8E8C-58A644C6B51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2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653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656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2F4C4-A215-4BCC-A42C-7446CF718E5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0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0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1C49A-C98F-43BB-A5C3-6C0BD09876AB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4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9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50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DED5DE-3A93-4197-8AA0-5D4909BF216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3" name="Group 7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794" name="Rectangle 8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795" name="Rectangle 9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2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3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54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F42BD-1A06-4284-883B-C17B45DF6506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9DE3B-6776-4111-916D-C1B8968A947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90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068DF2-6988-4A71-AAD3-482CE1F9B95C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137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Rectangle 1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40" name="Rectangle 1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198CA-C08F-4DFB-B4B4-FEE9F0FBF03E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84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187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210D5-AB90-4F71-B892-DF584EE565FD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30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31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34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037CEC-AC95-47F5-B94A-5313C11C9C40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78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281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12681E-753B-4E14-96CC-9EA5E04EC8B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8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154100-8A4C-4E98-9917-666A2847D6CF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8" name="Group 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9" name="Picture 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Rectangle 1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rebuchet MS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3E8BA-404C-4FD6-B8EF-636014387161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280" y="2743200"/>
            <a:ext cx="606924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800" spc="-1" strike="noStrike">
                <a:solidFill>
                  <a:srgbClr val="ffffff"/>
                </a:solidFill>
                <a:latin typeface="Trebuchet MS"/>
              </a:rPr>
              <a:t>ТЕРМОТЕРАПИЈА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4360" y="5516640"/>
            <a:ext cx="6107040" cy="11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Доц. др Катарина Парезановић- Илић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99640" y="752400"/>
            <a:ext cx="652788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Циљеви </a:t>
            </a:r>
            <a:br>
              <a:rPr sz="3600"/>
            </a:b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од примене топлотне </a:t>
            </a: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899640" y="2336400"/>
            <a:ext cx="6521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1. Аналгез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Релаксација (мишићни спазам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3. Хиперемиј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4. Повећан екстензибилитет колаген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5. Убрзање метаболичких проце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971280" y="2336400"/>
            <a:ext cx="78483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1. Субакутна и хронична мишићноскелетна стања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(тендинитис, теносиновитис, бурзитис, итд.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2. Бол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3. Артритис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4. Контрактур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5. Релаксација мишић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6. Хронична инфламација (посттрауматска стања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   РА, дегенеративни артритис, ...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Контраиндикације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за примену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ermoth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899640" y="2336400"/>
            <a:ext cx="770436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Акутна траума, инфламација, хеморагија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Може да погорша акутну инфламацију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штећење циркулације (исхем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в. метаб. активности може премашити капацитет арт. васкуларизације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Поремећај коагулације (нпр. хемофилија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Велики ожиљци: ожиљци су аваскуларни и не могу добро да расипају топлоту: Малигнитет (повећава потенцијал за раст и хематогену дисеминацију)</a:t>
            </a:r>
            <a:br>
              <a:rPr sz="1500"/>
            </a:br>
            <a:r>
              <a:rPr b="0" lang="sr-RS" sz="2000" spc="-1" strike="noStrike">
                <a:solidFill>
                  <a:srgbClr val="ffffff"/>
                </a:solidFill>
                <a:latin typeface="Trebuchet MS"/>
              </a:rPr>
              <a:t>Опште контраиндикације (когнитивни дефицит, оштећење сензибилитета, и др.)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Облици терм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971640" y="2133360"/>
            <a:ext cx="64497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елоидотер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анготерапиј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песк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ерапија топлим ваздухом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АРАФИНОТЕРАПИЈ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900000" y="2336400"/>
            <a:ext cx="734400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отерапија се обавља помоћу топлих парафинских облога и потапањем екстремитета у парафин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оред тога примена парафина се спроводи као маска код парализе н. Фациалис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спреј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рафински калуп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АУН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533520" y="2336760"/>
            <a:ext cx="821520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је специјални вид парне коморе. Саграђена је од дрвета. Под је тако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ђ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 од дрвета. У тој просторији су смештене клупе. На најнижим клупама где је температура 6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ли на највишим клупама где је темература 90-100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Обично је боравак у сауни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20-30 мин. Након боравка у сауни узима се хладан туш.Током боравка у сауни расте температура коже и до 4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 и организма до 39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 C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. Долази до профузног знојења. Понекад се излучи и 200 </a:t>
            </a:r>
            <a:r>
              <a:rPr b="0" lang="sr-Latn-RS" sz="2200" spc="-1" strike="noStrike">
                <a:solidFill>
                  <a:srgbClr val="ffffff"/>
                </a:solidFill>
                <a:latin typeface="Trebuchet MS"/>
              </a:rPr>
              <a:t>ml 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зноја. Убрзава се пулс, пада дијастолни притисак. Примењује се обично 2 пута недељно. 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ауна има снажан стимулативни ефекат на организам, повећава општи тонус и радну способност организма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КРИОТЕРАПИЈА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10920" y="2336400"/>
            <a:ext cx="80643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ецептори за хладноцу се називају Краузеова телашца и има их највише на лицу - око 20 на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m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2. Примена криотерапије треба да буде кратка, јер проду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ж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ена криотерапија изазива парезу крвних судова и успорење крвне струје и јавља се осећај хладноће а затим дрхтавица. Из тих разлога треба се држати по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Kowarschik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у следећег правила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"кратко и хладно".</a:t>
            </a:r>
            <a:br>
              <a:rPr sz="28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ацијенти третирани ледом у 90% случајева имају смањење гамма спастичности, а ефекат се одржава чак 10-12 сати по престанку процедур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Терапијски ефекти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899640" y="2336760"/>
            <a:ext cx="741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риотерапија делује аналгетски. Апликацијом леда долази до смањења надражљивости и проводљивости нервних структура. Аналгезија се може запазити код посттрауматских стања где имамо реактивно запаљење и едем. Смањење едема доводи до смањења притиска и надражаја на периферне нервне завршетке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Техника</a:t>
            </a:r>
            <a:r>
              <a:rPr b="0" lang="sr-Latn-CS" sz="36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3600" spc="-1" strike="noStrike">
                <a:solidFill>
                  <a:srgbClr val="ffffff"/>
                </a:solidFill>
                <a:latin typeface="Trebuchet MS"/>
              </a:rPr>
              <a:t>апл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971280" y="2336400"/>
            <a:ext cx="72723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окал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акова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мерзиј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2-3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ин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5-6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пут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Криомасаж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убјективн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сећај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жарењ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Лак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испарљиве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чности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Cryo-cuff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метод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(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48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сати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дн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во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7129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Индикације за примену криотерап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мишицни спазам након повред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веже повреде меких ткива 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оток и бол зглобова код запаљењ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спастичност код оштећења гамма моторног система (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</a:rPr>
              <a:t>Sclerosis multiplex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водна терапија за примену кинезитерапиј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алгодистрофија у првом стадијуму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692360" y="764640"/>
            <a:ext cx="66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Е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Р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М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О</a:t>
            </a: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rebuchet MS"/>
              </a:rPr>
              <a:t>Т Е Р А П И Ј 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1692360" y="2336400"/>
            <a:ext cx="5729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загрева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довође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8111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хлађењ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ела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,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одузимањем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Trebuchet MS"/>
              </a:rPr>
              <a:t>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France YU"/>
                <a:ea typeface="Times New Roman"/>
              </a:rPr>
              <a:t>Контраиндик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971640" y="2336760"/>
            <a:ext cx="7416720" cy="42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улцерације у периферним крвним судовима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артеријска оштецења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артеријска оштећења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II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и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 IV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дијум по </a:t>
            </a:r>
            <a:r>
              <a:rPr b="0" lang="sr-Latn-CS" sz="2400" spc="-1" strike="noStrike">
                <a:solidFill>
                  <a:srgbClr val="ffffff"/>
                </a:solidFill>
                <a:latin typeface="Trebuchet MS"/>
              </a:rPr>
              <a:t>Fontenu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оштећење сензибилиетт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алергија на хладноћу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morbus Raynau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тања након промрзлина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ffffff"/>
                </a:solidFill>
                <a:latin typeface="Trebuchet MS"/>
              </a:rPr>
              <a:t>ТАЧКА ТОЛЕРАНЦИЈ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Тачка толеранције је степен загрејаности материје који још увек не прави никакве штетне последице на организам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За сув ваздух тацка толеранције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10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граница толеранције за воду је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45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за парафин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65</a:t>
            </a:r>
            <a:r>
              <a:rPr b="0" lang="sr-RS" sz="28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,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пелоид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50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C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17080" indent="-217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СПЕФИФИЧНА ТОПЛОТА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личина топлоте измерена у калоријама, која је неопходна да се 1 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gr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еке супстанце загреје за 1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0 C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назива се специфицна топлота</a:t>
            </a:r>
            <a:r>
              <a:rPr b="0" lang="sr-Latn-RS" sz="24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042920" y="752040"/>
            <a:ext cx="63849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ТЕРМОТЕРАПИЈА </a:t>
            </a:r>
            <a:br>
              <a:rPr sz="3200"/>
            </a:b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У УЖЕМ СМИСЛУ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1042920" y="2336400"/>
            <a:ext cx="6378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ласификује с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према: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дубини пенетрације топлот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- начину трансфера топлоте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Према дубини пенетрациј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971640" y="2336400"/>
            <a:ext cx="64497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ovrš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toplot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pakovan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fluidoterap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IC zraci</a:t>
            </a:r>
            <a:br>
              <a:rPr sz="2200"/>
            </a:b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ubok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npr. ultrazvuk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kratkot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,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mikrotalasna</a:t>
            </a:r>
            <a:br>
              <a:rPr sz="2200"/>
            </a:b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rebuchet MS"/>
              </a:rPr>
              <a:t>dijatermij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71640" y="752040"/>
            <a:ext cx="645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Trebuchet MS"/>
              </a:rPr>
              <a:t>ПРЕНОС ТОПЛОТЕ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971640" y="2420640"/>
            <a:ext cx="792144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ду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овођење топлоте)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Радија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зрачење)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Конвекција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(пренос топлоте преко неког медијума –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rebuchet MS"/>
              </a:rPr>
              <a:t>      топлотно струјање)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899640" y="752040"/>
            <a:ext cx="652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ffffff"/>
                </a:solidFill>
                <a:latin typeface="Trebuchet MS"/>
              </a:rPr>
              <a:t>Биолошка деловања топлоте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33160" y="2336400"/>
            <a:ext cx="835956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Хемодинамск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Вазодилатациј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Смањење хроничне инфламације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инфламацију, едем, и крварење 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(егзарцебација акутних инфламаторних повреда)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Неуромишићна</a:t>
            </a:r>
            <a:br>
              <a:rPr sz="2400"/>
            </a:b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sr-RS" sz="2400" spc="-1" strike="noStrike">
                <a:solidFill>
                  <a:srgbClr val="ffffff"/>
                </a:solidFill>
                <a:latin typeface="Trebuchet MS"/>
              </a:rPr>
              <a:t>Повећава моторну и сензорну проводљивост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 txBox="1"/>
          <p:nvPr/>
        </p:nvSpPr>
        <p:spPr>
          <a:xfrm>
            <a:off x="971640" y="2205000"/>
            <a:ext cx="7704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Ефекат на зглобове и везивна ткив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мишићног тонус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повећање екстензибилитета колагена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смањење укочености зглобова</a:t>
            </a:r>
            <a:r>
              <a:rPr b="0" lang="sr-RS" sz="2200" spc="-1" strike="noStrike">
                <a:solidFill>
                  <a:srgbClr val="ffffff"/>
                </a:solidFill>
                <a:latin typeface="Trebuchet MS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14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Аналгетско дејств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Остало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rebuchet MS"/>
              </a:rPr>
              <a:t>уопштени ефекат релаксације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4:52Z</dcterms:modified>
  <cp:revision>38</cp:revision>
  <dc:subject/>
  <dc:title>Balneoterapija</dc:title>
</cp:coreProperties>
</file>