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EBC-2F73-4DF1-BD66-5419BB36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560-20C9-42DD-8575-14DB49BD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2717-9442-4013-AE8B-672E4CCD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E49E-F44B-4E87-8B57-B3330B88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A0ED-0CE2-4271-B42D-5861ACF1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03DF-461F-48A1-87B6-2363B928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DEF-A504-4E59-911F-2DFFDAEC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AB12-F054-48EF-88B5-8F4CD87D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AFBB-5859-4BC9-ADCA-5A308087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B9AF-00E3-4204-B38A-1DDE7471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456-E732-43BE-A132-F6DDFEAC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768-7FF4-46FC-B4DB-A76A6B7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8F2-B677-4B27-95F7-7BD9A5F6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1" descr="podloga"/>
          <p:cNvPicPr/>
          <p:nvPr/>
        </p:nvPicPr>
        <p:blipFill>
          <a:blip r:embed="rId1"/>
          <a:stretch/>
        </p:blipFill>
        <p:spPr>
          <a:xfrm>
            <a:off x="611280" y="46368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611280" y="5589720"/>
            <a:ext cx="7772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тарина Парезанов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ћ Илић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" name="Text Box 1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Text Box 1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" name="Rectangle 20"/>
          <p:cNvSpPr/>
          <p:nvPr/>
        </p:nvSpPr>
        <p:spPr>
          <a:xfrm>
            <a:off x="611280" y="2708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c00"/>
                </a:solidFill>
                <a:latin typeface="Arial"/>
              </a:rPr>
              <a:t>МАГНЕТОТЕРАПИЈ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" name="Text Box 22"/>
          <p:cNvSpPr/>
          <p:nvPr/>
        </p:nvSpPr>
        <p:spPr>
          <a:xfrm>
            <a:off x="1332000" y="174636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" name="Text Box 23"/>
          <p:cNvSpPr/>
          <p:nvPr/>
        </p:nvSpPr>
        <p:spPr>
          <a:xfrm>
            <a:off x="1332000" y="210672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33399"/>
                </a:solidFill>
                <a:latin typeface="Arial"/>
              </a:rPr>
              <a:t>Дејство магнето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елуларни-дејство на ћелијску мембрану (ед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неуровегетативни-преко хипоталамуса на ЦНС и 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ендокрини систем (отпорност,сан, спастицит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  циркулаторни-преко надбубрега и хипоталамус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 (рефлаксно вазодилатато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333399"/>
                </a:solidFill>
                <a:latin typeface="Arial"/>
              </a:rPr>
              <a:t>Индикације за магнет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мијалгије, периартритис, епиконди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артрозе, артрит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цервикални и лумбални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дисторзије, контузије, луксације,фрактуре, остеопо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васкулопатије, торпидни улкуси разне 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херпес зостер,постхерпетичне неуралг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- екцеми, акне, фурункулозе, дерматитиси, псориј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Контраиндикације за магнетотерапиј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гравид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оремећај коагулације-хемофил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паце-мак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јувенилни узрас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0033"/>
                </a:solidFill>
                <a:latin typeface="Arial"/>
              </a:rPr>
              <a:t>          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хипотенз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малигните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фебрилна стањ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- активна форма туберкулоз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55200"/>
            <a:ext cx="82296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Исто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Модерна али не и нов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Кинези су пре ви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ше хиљада година стављали магнетну руду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на поједине орг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гипћани су користили блато из реке Нил богато магнети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 веку Wiliam Gilbert, откривач електрицитета,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поручује магнете за лече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XVIII веку(1723) Glaisault производи прв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вештачке магнете, али тек 1777. год Le Nobl први 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представља вешта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ч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ке магнете медицинском све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Данашња истраживања су усмерена на испитивање вез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између геомагнетских поља и биообјек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но поље човека износи 10 на минус 14 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Најснажније биолошко магнетно по</a:t>
            </a:r>
            <a:r>
              <a:rPr b="1" lang="sr-CS" sz="2000" spc="-1" strike="noStrike">
                <a:solidFill>
                  <a:srgbClr val="660033"/>
                </a:solidFill>
                <a:latin typeface="Arial"/>
              </a:rPr>
              <a:t>љ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е човека је </a:t>
            </a:r>
            <a:br>
              <a:rPr sz="2000"/>
            </a:b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 магнетно поље ср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332000" y="1268280"/>
            <a:ext cx="7354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3399"/>
                </a:solidFill>
                <a:latin typeface="Arial"/>
              </a:rPr>
              <a:t>Предност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реко гипса,завоја,одеће,мет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обро се комбинује са свим ост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a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лим агенс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постоји минимум контраиндик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одмах по настанку повреде или обољ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333399"/>
                </a:solidFill>
                <a:latin typeface="Arial"/>
              </a:rPr>
              <a:t>Недостаци магнетотерапи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човек нема рецепторе за магнетно поље,</a:t>
            </a:r>
            <a:br>
              <a:rPr sz="2400"/>
            </a:b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 нема осећај да се л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дејство је блаже, захтева дужи третм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82818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Подела магнетног поља у терап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А: 1. ста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променљива: а.импулсна; б.алтерна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импулсно магнетно поље настаје проласком импулсних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  (галванске) струја кроз магн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- алтернативно проласком наизменичне струје кроз маг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Б: 1. нискофреквентна–до 100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исокофреквентна више десетина МХз-загре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3. мешовита – високофреквентна појла која се генеришу у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серијама раздвојени паузама.Фреквенце серија су из високих 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фреквенца.,пауза су из ниских фреквенца. Индукције су ма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како би се избегли термички ефекти који увек </a:t>
            </a:r>
            <a:br>
              <a:rPr sz="1800"/>
            </a:b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    прате високофрекв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Ц: 1. природна-геомагнетно по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2. вешта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Примена магнетног пољ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Безапаратурном техни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Магнетофоре - ситни округли или плочасти предмети изграђени од магнетне руде са примесом см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Апликују се на оболили део дела и носе 2-24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333399"/>
                </a:solidFill>
                <a:latin typeface="Arial"/>
              </a:rPr>
              <a:t>Апаратурном техником-користе електромагнетно пољ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У апаратурној магнето терапији користе се уређај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нис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660033"/>
                </a:solidFill>
                <a:latin typeface="Arial"/>
              </a:rPr>
              <a:t>- високо фреквентним стру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11280" y="2708280"/>
            <a:ext cx="79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71640" y="1201680"/>
            <a:ext cx="8172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Нис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2-10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 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Високо фреквентно импулсно </a:t>
            </a:r>
            <a:br>
              <a:rPr sz="2400"/>
            </a:br>
            <a:r>
              <a:rPr b="1" lang="sr-CS" sz="2400" spc="-1" strike="noStrike">
                <a:solidFill>
                  <a:srgbClr val="333399"/>
                </a:solidFill>
                <a:latin typeface="Arial"/>
              </a:rPr>
              <a:t>магнетно поље 100-640</a:t>
            </a:r>
            <a:r>
              <a:rPr b="1" lang="sr-Latn-CS" sz="2400" spc="-1" strike="noStrike">
                <a:solidFill>
                  <a:srgbClr val="333399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Модерна апаратура </a:t>
            </a:r>
            <a:br>
              <a:rPr sz="2400"/>
            </a:b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има фреквенцу од 5-640</a:t>
            </a:r>
            <a:r>
              <a:rPr b="1" lang="sr-Latn-CS" sz="2400" spc="-1" strike="noStrike">
                <a:solidFill>
                  <a:srgbClr val="660033"/>
                </a:solidFill>
                <a:latin typeface="Arial"/>
              </a:rPr>
              <a:t>imp/sec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Електроде код магнетотерапије :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антена</a:t>
            </a:r>
            <a:endParaRPr b="1" lang="en-US" sz="24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33"/>
                </a:solidFill>
                <a:latin typeface="Arial"/>
              </a:rPr>
              <a:t>соленоид</a:t>
            </a:r>
            <a:r>
              <a:rPr b="1" lang="sr-C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66560" y="2054160"/>
            <a:ext cx="854892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                                        </a:t>
            </a:r>
            <a:r>
              <a:rPr b="1" lang="sr-CS" sz="2600" spc="-1" strike="noStrike">
                <a:solidFill>
                  <a:srgbClr val="333399"/>
                </a:solidFill>
                <a:latin typeface="Arial"/>
              </a:rPr>
              <a:t>малa дозa     великa doзa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индуkциј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B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mТ)                     3                   5-1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фреквeнца f (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Hz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               &lt; 6                 25-5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трајaње трeтмaнa Т (m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in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)     5-10               15-30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број третманa </a:t>
            </a: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N </a:t>
            </a:r>
            <a:r>
              <a:rPr b="1" lang="sr-CS" sz="2600" spc="-1" strike="noStrike">
                <a:solidFill>
                  <a:srgbClr val="660033"/>
                </a:solidFill>
                <a:latin typeface="Arial"/>
              </a:rPr>
              <a:t>(путa)          5-15          2 нед.-3 мeс.</a:t>
            </a:r>
            <a:endParaRPr b="1" lang="en-US" sz="26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31480" y="108864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Доз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рање</a:t>
            </a: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966600"/>
            <a:ext cx="85899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3399"/>
                </a:solidFill>
                <a:latin typeface="Arial"/>
              </a:rPr>
              <a:t>Примен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936720" y="1959120"/>
            <a:ext cx="756108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Локалн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333399"/>
                </a:solidFill>
                <a:latin typeface="Arial"/>
              </a:rPr>
              <a:t>- Општа</a:t>
            </a: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Надбубрежна жлезд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хронични ифламаторн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и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реуматизам, артрозе, упале венског порекла, ран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Јетр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инфекције, некрозе,</a:t>
            </a: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консолидације костију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л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зин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теже трауматске повреде, едеми, хематоми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Епигасриума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инфламаторни процеси, </a:t>
            </a:r>
            <a:br>
              <a:rPr sz="1800"/>
            </a:b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поремећаји периферног крв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Лимфних чворова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 (проблем лимфотока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333399"/>
                </a:solidFill>
                <a:latin typeface="Arial"/>
              </a:rPr>
              <a:t>Сакрум </a:t>
            </a:r>
            <a:r>
              <a:rPr b="1" lang="sr-Latn-CS" sz="1800" spc="-1" strike="noStrike">
                <a:solidFill>
                  <a:srgbClr val="660033"/>
                </a:solidFill>
                <a:latin typeface="Arial"/>
              </a:rPr>
              <a:t>(артрозе, исцхиалгие)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  <a:p>
            <a:pPr marL="268200" indent="-268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333399"/>
                </a:solidFill>
                <a:latin typeface="Arial"/>
              </a:rPr>
              <a:t>Терапијска дејства магнетотерап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локална вазодилат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алгетс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едематоз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трофич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стварање кал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843200" indent="0">
              <a:spcBef>
                <a:spcPts val="6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660033"/>
                </a:solidFill>
                <a:latin typeface="Arial"/>
              </a:rPr>
              <a:t>- зарастање рана и улку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1" lang="en-US" sz="18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7:34:11Z</dcterms:created>
  <dc:creator>Vojislav Ilic</dc:creator>
  <dc:description/>
  <dc:language>en-US</dc:language>
  <cp:lastModifiedBy>katarinaparezanovicilic@gmail.com</cp:lastModifiedBy>
  <dcterms:modified xsi:type="dcterms:W3CDTF">2020-09-26T16:54:16Z</dcterms:modified>
  <cp:revision>37</cp:revision>
  <dc:subject/>
  <dc:title>Slide 1</dc:title>
</cp:coreProperties>
</file>