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5296-E8C2-41AF-AED3-C8E9E13D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79A0-49C4-4ED4-A027-A5B12F57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4679-9BA8-41A7-BAF0-6B85D6FF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87D7-10E2-4855-8535-2D231694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E39B-671F-4AD5-97A4-6D6D6064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094F6-1D92-4997-97FE-70706624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75A1-74F1-452D-B13C-F2D8C7DE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0F6C-CDB4-41D0-8626-7C968E31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CD30-9724-4F89-8316-01474FAD1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E523-20D4-4615-99DE-C3EDF084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7160-DA79-42AD-B4BA-621DD8FE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C3FD-34D2-4259-9A6C-C7B5B8E4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1B73-E738-4258-A70E-09C90537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5E6A-6621-41B9-9E95-1B57F30E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D343-73A0-43B2-A91A-90FEF4F2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37E1-F953-4D48-B020-B2953022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1FAE-96E7-4A97-A06A-DB7A4BE0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036CD-9C24-4B07-8462-512AC75B8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6A750-ADE7-42C9-B5F9-E9777B93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43147-EA6A-48F7-99AD-CBD5408C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80C81-648E-4AC3-B21E-83E59103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80AD7-8F1C-4C7F-9761-66562292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758D-1159-4984-AA6A-B2F1483B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D7A1E-8EBC-46E2-88D5-B41154EA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36378-0C47-44B3-ABB5-E075AC40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76A19-69D6-4ECE-BB46-2A6438B2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34316-5094-4282-B51F-46B4AB88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7CC62-7F13-4418-A6B9-3FCB650C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7357B-E534-4333-B00B-05B3CCF4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00544-E8A7-4BEF-827B-21B48C35D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71D1-8B6B-4250-A7AB-6748CD0AE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4755-0A34-452C-B2EF-BED0781E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FFF0-DAB7-4ABB-BFE7-D6AECEAC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7CB6-DA68-4B23-ABAD-611A29F2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D1E0-898B-4B1E-9B6C-33A28504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4C97-85E6-4E16-BB39-99C3601D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5D63-77ED-4089-B9E4-A9611E5ACB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A68F-570C-453D-A0A2-F63CB7BF73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3319-839F-4084-B477-3595FA091B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podloga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6289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71600" y="2781360"/>
            <a:ext cx="64008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ЛАСЕРО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66699"/>
                </a:solidFill>
                <a:latin typeface="Arial"/>
              </a:rPr>
              <a:t>Доц. др Катарина Парезановић-Ил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332000" y="194004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ОСНОВНЕ СТРУКОВНЕ СТУД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332000" y="230040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660033"/>
                </a:solidFill>
                <a:latin typeface="Arial"/>
              </a:rPr>
              <a:t>СТРУКОВНА МЕДИЦИНСКА СЕСТРА-ТЕХНИЧ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                </a:t>
            </a: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Подела лас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 на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) техни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б) медицинс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хирур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терапијске-биостимулатив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( са малом енергиј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а коагулирајућим деј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cce6"/>
                </a:solidFill>
                <a:latin typeface="Arial"/>
              </a:rPr>
              <a:t>Хируршки ласер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24379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 хирургији се користе у виду ласерског скалп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омоћу кога се оперативни резови изводе безкрвно,брзо зарастају и осигуравају потпуну стерилно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арочито су погодни за операције на паренхимним органима, код гнојних и малигних обоље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6560" y="990720"/>
            <a:ext cx="8220240" cy="100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cc"/>
                </a:solidFill>
                <a:latin typeface="Arial"/>
              </a:rPr>
              <a:t>Терапијски (биостимулативни) лас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 физикалној медицини и рехабилитацији се користе ласери ниске снаге-хладни ласе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He-Ne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асер,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r-jod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асер, полупроводнички ласери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ки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ају с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 jeд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у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k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в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aл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них ду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н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на изл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Терапијски лaсeр (600-1100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nm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езнатно се абсорбују у води и пигментима па дубље продиру у тк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cc"/>
                </a:solidFill>
                <a:latin typeface="Arial"/>
              </a:rPr>
              <a:t>Ласери са коагулирајућим дејств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03200" y="2209320"/>
            <a:ext cx="8359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Ласерски зраци велике енергетске густине изазивају денатурацију беланчевина,тј.коагул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оја је позната као фотокоагулација.Ова појава се користи за лечење аблације ретине ( одлубљивање мрежњач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ористи се за заустављање крварења код дијабетичне ретинопатије као и за заустављање крварења у једњаку,желуцу и цревима-аргонски ласе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За скидање тетоважа, невуса и вер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Биоло</a:t>
            </a:r>
            <a:r>
              <a:rPr b="1" lang="sr-Latn-CS" sz="3600" spc="-1" strike="noStrike">
                <a:solidFill>
                  <a:srgbClr val="ccffcc"/>
                </a:solidFill>
                <a:latin typeface="Arial"/>
              </a:rPr>
              <a:t>ш</a:t>
            </a: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ко дејство ласерског зра</a:t>
            </a:r>
            <a:r>
              <a:rPr b="1" lang="sr-Latn-CS" sz="3600" spc="-1" strike="noStrike">
                <a:solidFill>
                  <a:srgbClr val="ccffcc"/>
                </a:solidFill>
                <a:latin typeface="Arial"/>
              </a:rPr>
              <a:t>ч</a:t>
            </a: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е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0" y="190512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оплотн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хан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јава слободних радик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отохемијски еф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јава ендотокс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отоелектр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и ефек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To</a:t>
            </a: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плотни ефека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Енергија ласерског зрачења се апсорбује у атомима и молекулима ткива,при чему настаје њихово кретање и трење,које даје топлотну енергију. Од ћелијских састојака најосетљивији су ферменти,њихова активност престаје најраније.Ово се дешава кад температура достигне 45 степени,на 55 степени настаје денатурација беланчев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Механички ефек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ад се ласерски зраци абсорбују у ткивима долази до напрезања ткива,долази до прскања ткива.Тај притисак код неодијумског ласера је 0,64 паскала.ово је посебно наглашено код туморског тк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ffcc"/>
                </a:solidFill>
                <a:latin typeface="Arial"/>
              </a:rPr>
              <a:t>Фотохемијски ефек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Фотохемијске промене се углавном јављају на таласној дужини мањој од 500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nm.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Максимум апсорпције имају беланчевине и нуклеинске кисел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Фотобиолошки одговор зависи од оптичких својстава ткива изложеног ласерском зрачењ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Стварање ендотокси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осле озрачења могу се појавити токсичне материје које називамо ендотоксини.Од њихове количине зависи и прогресивност оштећења тки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ffcc"/>
                </a:solidFill>
                <a:latin typeface="Arial"/>
              </a:rPr>
              <a:t>Фотоелектрични ефек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6782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а повећањем густине енергије ласерског зрачења у озраченом ткиву се јавља поље високог електричног напона. Ово доводи до промене електричног потенцијала молекула и ћелија и поремећаја електричних карактеристика озраченог тки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cc"/>
                </a:solidFill>
                <a:latin typeface="Arial"/>
              </a:rPr>
              <a:t>Историјат лас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азвој квантне електронике почиње крајем прошлог и почетком овог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j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штајн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1917. 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хипотеза о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индукованој емисиј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Басов и Прохоров 1964.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Нобелову награду за физику развоја ласе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Schawlow 1981.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Нобелову награду за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ласерску спектроскопију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ffff"/>
                </a:solidFill>
                <a:latin typeface="Arial"/>
              </a:rPr>
              <a:t>ТЕРАПИЈСКО ДЕЛОВАЊЕ ЛАС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2133720"/>
            <a:ext cx="899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Биостимулатив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убрзава ћелијску деобу (митозу) и синтезу ДНК и РН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повећава број колагених влакана и синтезу колаге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повећава синтезу АТ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убрзава размену кроз ћелијску мембран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мења дејство ензима у базалном слоју епите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Аналгетск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стумулише “брза” бета-А влакна (ГАТЕ ЦОНТРОЛ)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200" spc="-1" strike="noStrike">
                <a:solidFill>
                  <a:srgbClr val="ccffcc"/>
                </a:solidFill>
                <a:latin typeface="Arial"/>
              </a:rPr>
              <a:t>- стимулише продукцију бета-ендорфир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294920" y="1904760"/>
            <a:ext cx="8153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Антиинфламатор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ccffcc"/>
                </a:solidFill>
                <a:latin typeface="Arial"/>
              </a:rPr>
              <a:t>- смањује лучење простаглан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ccffcc"/>
                </a:solidFill>
                <a:latin typeface="Arial"/>
              </a:rPr>
              <a:t>- побољшава фагоцит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</a:rPr>
              <a:t>Имунолошк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ccffcc"/>
                </a:solidFill>
                <a:latin typeface="Arial"/>
              </a:rPr>
              <a:t>- супресија Т и Б лимфоц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ffcc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ccffcc"/>
                </a:solidFill>
                <a:latin typeface="Arial"/>
              </a:rPr>
              <a:t>- продужено преживљавање трансплат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9601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e6"/>
                </a:solidFill>
                <a:latin typeface="Arial"/>
              </a:rPr>
              <a:t>Т</a:t>
            </a:r>
            <a:r>
              <a:rPr b="1" lang="en-GB" sz="4400" spc="-1" strike="noStrike">
                <a:solidFill>
                  <a:srgbClr val="cccce6"/>
                </a:solidFill>
                <a:latin typeface="Arial"/>
              </a:rPr>
              <a:t>ехника примене лас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600200" y="2819520"/>
            <a:ext cx="610704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Скенирају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15-30 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Мануелни нач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Л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асерска акупун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Дозирање ласеротерап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реквенција 1 - 10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Hz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нтиспаст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 - 60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Hz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налгет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 - 600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Hz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утроф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ко 1000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Hz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нтинфламатор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нага 5 - 10 мW акупункту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- 70 мW скенирају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реме трајања 1 - 10 минута, 30 минута максимал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нергија 4Ј, 6Ј/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...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8 Ј/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c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максимал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ccffcc"/>
                </a:solidFill>
                <a:latin typeface="Arial"/>
              </a:rPr>
              <a:t>Дозира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Код свежих повреда почиње се са малим дозама па се касније доза повећава као и време трајања аплик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73040" y="609120"/>
            <a:ext cx="8213760" cy="9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Индикације</a:t>
            </a:r>
            <a:r>
              <a:rPr b="1" lang="sr-Latn-CS" sz="4000" spc="-1" strike="noStrike">
                <a:solidFill>
                  <a:srgbClr val="ccffff"/>
                </a:solidFill>
                <a:latin typeface="Arial"/>
              </a:rPr>
              <a:t> за ласеротерапиј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786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РАУМАТОЛOГИЈА И СПОРТСКА МЕДИЦIНА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дисторзије, контузије, тендин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и, тендовагин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ти, руптуре м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ш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, ентезит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и ентезопатије, св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еж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и преломи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ПРОМЕНE НА КРВНИМ СУДОВИМА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варикси, улкус вари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осум,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Mb.Rejno...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О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Ж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НЕ БОЛЕСТИ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екцем, акне, фур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н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кули,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херпес симплекс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х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ерпес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зостер,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анaлне фисуре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Индикације</a:t>
            </a:r>
            <a:r>
              <a:rPr b="1" lang="sr-Latn-CS" sz="4000" spc="-1" strike="noStrike">
                <a:solidFill>
                  <a:srgbClr val="ccffff"/>
                </a:solidFill>
                <a:latin typeface="Arial"/>
              </a:rPr>
              <a:t> за ласеротерапиј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ГИНЕКОЛОГИЈА И УР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уретрити,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днексити, ендоцервицити, ерозије грли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ћ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а,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маститис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ОФТАЛМ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глауком, аблација ретине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НЕУР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- мигрене,парезе чак и 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n. facialisa,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мишићне атрофије и дистроф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РЕУМАТСКА ОБО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- дегенеративни,ванзглобни,запаљенски у фази ремис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СТОМАТ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- парадонтозе,стоматити, промене на слузокожи 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611280" y="16668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Контраиндикације за ласеротерапиј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Pace-ma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Трудноћ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Деца у развоју у пределу зона окошта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Малигн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Фебрилна стањ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Акутна запаљенска ст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457200" y="324648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457200" y="45720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Мере за</a:t>
            </a:r>
            <a:r>
              <a:rPr b="1" lang="sr-Latn-CS" sz="4400" spc="-1" strike="noStrike">
                <a:solidFill>
                  <a:srgbClr val="ccffff"/>
                </a:solidFill>
                <a:latin typeface="Arial"/>
              </a:rPr>
              <a:t>ш</a:t>
            </a:r>
            <a:r>
              <a:rPr b="1" lang="en-GB" sz="4400" spc="-1" strike="noStrike">
                <a:solidFill>
                  <a:srgbClr val="ccffff"/>
                </a:solidFill>
                <a:latin typeface="Arial"/>
              </a:rPr>
              <a:t>тите од ласе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е гледати  у ласерски сн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аочаре са посебним филте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ffff"/>
                </a:solidFill>
                <a:latin typeface="Arial"/>
              </a:rPr>
              <a:t>Дефиниција</a:t>
            </a: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 ласерске светл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Arial"/>
              </a:rPr>
              <a:t>L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ight </a:t>
            </a: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mplification by </a:t>
            </a:r>
            <a:br>
              <a:rPr sz="2800"/>
            </a:b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timulated </a:t>
            </a: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Arial"/>
              </a:rPr>
              <a:t>E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mission of </a:t>
            </a:r>
            <a:r>
              <a:rPr b="1" lang="sr-Latn-C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Извор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ма ус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мер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г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сно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п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к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херентне монохроматске светл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Спонтана и стимулисана емисија зрач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0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ccffcc"/>
                </a:solidFill>
                <a:latin typeface="Arial"/>
              </a:rPr>
              <a:t>Особине ласерске светл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2373120"/>
            <a:ext cx="38862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cc"/>
                </a:solidFill>
                <a:latin typeface="Arial"/>
              </a:rPr>
              <a:t>кохерентна </a:t>
            </a:r>
            <a:br>
              <a:rPr sz="2400"/>
            </a:br>
            <a:r>
              <a:rPr b="1" lang="sr-Latn-CS" sz="2400" spc="-1" strike="noStrike">
                <a:solidFill>
                  <a:srgbClr val="ccffcc"/>
                </a:solidFill>
                <a:latin typeface="Arial"/>
              </a:rPr>
              <a:t>(један правац простирањ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cc"/>
                </a:solidFill>
                <a:latin typeface="Arial"/>
              </a:rPr>
              <a:t>монохромати</a:t>
            </a:r>
            <a:r>
              <a:rPr b="1" lang="sr-Latn-CS" sz="2400" spc="-1" strike="noStrike">
                <a:solidFill>
                  <a:srgbClr val="ccffcc"/>
                </a:solidFill>
                <a:latin typeface="Arial"/>
              </a:rPr>
              <a:t>ч</a:t>
            </a:r>
            <a:r>
              <a:rPr b="1" lang="en-US" sz="2400" spc="-1" strike="noStrike">
                <a:solidFill>
                  <a:srgbClr val="ccffcc"/>
                </a:solidFill>
                <a:latin typeface="Arial"/>
              </a:rPr>
              <a:t>на</a:t>
            </a:r>
            <a:r>
              <a:rPr b="1" lang="sr-Latn-CS" sz="2400" spc="-1" strike="noStrike">
                <a:solidFill>
                  <a:srgbClr val="ccffcc"/>
                </a:solidFill>
                <a:latin typeface="Arial"/>
              </a:rPr>
              <a:t> </a:t>
            </a:r>
            <a:br>
              <a:rPr sz="2400"/>
            </a:br>
            <a:r>
              <a:rPr b="1" lang="sr-Latn-CS" sz="2400" spc="-1" strike="noStrike">
                <a:solidFill>
                  <a:srgbClr val="ccffcc"/>
                </a:solidFill>
                <a:latin typeface="Arial"/>
              </a:rPr>
              <a:t>(једна бо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cc"/>
                </a:solidFill>
                <a:latin typeface="Arial"/>
              </a:rPr>
              <a:t>усмер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4648320" y="2373480"/>
            <a:ext cx="4038480" cy="31366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cc"/>
                </a:solidFill>
                <a:latin typeface="Arial"/>
              </a:rPr>
              <a:t>Основни елементи лас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2504880"/>
            <a:ext cx="8001000" cy="27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68000"/>
          </a:bodyPr>
          <a:p>
            <a:pPr marL="2332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Активно средств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умно</a:t>
            </a: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ава фотоне</a:t>
            </a: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2400"/>
            </a:b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Више од половине честица су на вишем нив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Ласерска пумп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извор енергије за побу</a:t>
            </a: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ђ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и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Резонато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проду</a:t>
            </a: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ж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ава пут емитованих фотона и њихово дејство на активно средство</a:t>
            </a: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cc"/>
                </a:solidFill>
                <a:latin typeface="Arial"/>
              </a:rPr>
              <a:t>Чине га два паралелна огледала између којих је активно сре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32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Систем за хлађ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cc"/>
                </a:solidFill>
                <a:latin typeface="Arial"/>
              </a:rPr>
              <a:t>                           </a:t>
            </a: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Подела ласера</a:t>
            </a:r>
            <a:r>
              <a:rPr b="1" lang="en-US" sz="2800" spc="-1" strike="noStrike">
                <a:solidFill>
                  <a:srgbClr val="cc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80720" y="198072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рема таласној дужи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) са видљивом светлошћу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д 400-780м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б) са невидљивом светлошћу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од 780-1500н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cc"/>
                </a:solidFill>
                <a:latin typeface="Arial"/>
              </a:rPr>
              <a:t>                </a:t>
            </a: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Подела лас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ема извору побу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а) опти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б) са коришћењем самостално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ажњ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) електројонизацио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г) топлот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д) хемиј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ђ) рекомбинацио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Подела лас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На основу активног материјал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а) чврсте (рубински, неодијумски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б) теч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ц) гас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д) молекулар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е) јонск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ф) електројонизацио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г) гасодинамичк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х) хемијск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600" spc="-1" strike="noStrike">
                <a:solidFill>
                  <a:srgbClr val="ffffff"/>
                </a:solidFill>
                <a:latin typeface="Arial"/>
              </a:rPr>
              <a:t>ј) плазме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ccffcc"/>
                </a:solidFill>
                <a:latin typeface="Arial"/>
              </a:rPr>
              <a:t>Подела лас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8191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Према начину емитовањ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а) континуир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б) импулсни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 rot="10800000">
            <a:off x="611280" y="630684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ccff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611280" y="18900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09:00:25Z</dcterms:created>
  <dc:creator>WIN98SE</dc:creator>
  <dc:description/>
  <dc:language>en-US</dc:language>
  <cp:lastModifiedBy>katarinaparezanovicilic@gmail.com</cp:lastModifiedBy>
  <dcterms:modified xsi:type="dcterms:W3CDTF">2020-09-26T16:53:27Z</dcterms:modified>
  <cp:revision>56</cp:revision>
  <dc:subject/>
  <dc:title>LASEROTERAPIJA </dc:title>
</cp:coreProperties>
</file>